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3912-C93D-405B-A86B-6A9599BDB18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84B1-1939-4B82-9074-A3D63BF02A3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C0E-2F3D-49F5-BA98-4EF2ED0D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AD2-1C02-4DB6-848F-9FF282C3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1CE6-712D-450C-88BE-E0554812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B37F-41C6-47F1-871B-B2ADD832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495-D99F-4994-A64F-52FAA501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3F3F-DEC3-47CF-ACFB-8F75A735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747B-677B-453A-B0BE-C53CDCF6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639A-2190-4CC0-BA4C-8E06A0DC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A77-8C96-4CC9-9F33-A388DB35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FF3B-D5EE-4C26-A6B5-3DD93C0E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81AF-3F44-46F2-8882-4C0A23D5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278-87D5-4CAC-AF75-C5D790C6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9CC1-1424-4C9A-B61B-A0A19CECE1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10E Constructing non-linear relations and graph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Graphical representation of relations of the form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ee examples, p.506-507 of textbook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o plot graphs, construct a table of values for the equation and substitute values of x between -5 and 5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Or use your calculator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1857240" y="2000160"/>
          <a:ext cx="1467000" cy="7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000160"/>
                    <a:ext cx="14670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0E, Q.1a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Finding a non-linear relationship using linear graph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o far, we have produced a table of values from an equation.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reverse process is more difficult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f the relationship between x and y is of the form                   then plotting  y against       will produce a straight line from the origin. The gradient of this line will be k.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1785960" y="3643200"/>
          <a:ext cx="1467000" cy="7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3643200"/>
                    <a:ext cx="14670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6"/>
          <p:cNvGraphicFramePr/>
          <p:nvPr/>
        </p:nvGraphicFramePr>
        <p:xfrm>
          <a:off x="7429680" y="3714840"/>
          <a:ext cx="50004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29680" y="3714840"/>
                    <a:ext cx="5000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0E, Q.3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56760" y="285480"/>
            <a:ext cx="82155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The find the rule of a relationship, if the value of n is known: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Plot y against       . The result must be a straight line from the origin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Select any two points on the line to calculate the value of the gradient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Since the gradient represents the value of k, substitute it into                 to give the rule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If the value of n is not know, plot y against x first. The shape of the graph will indicate the possible values of n. Test it by plotting y against       . If a straight line is produced, proceed as above; otherwise try a different value of n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65" name="Object 2"/>
          <p:cNvGraphicFramePr/>
          <p:nvPr/>
        </p:nvGraphicFramePr>
        <p:xfrm>
          <a:off x="3071880" y="1143000"/>
          <a:ext cx="43812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1880" y="1143000"/>
                    <a:ext cx="4381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3"/>
          <p:cNvGraphicFramePr/>
          <p:nvPr/>
        </p:nvGraphicFramePr>
        <p:xfrm>
          <a:off x="3571920" y="3500280"/>
          <a:ext cx="121428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920" y="3500280"/>
                    <a:ext cx="121428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4"/>
          <p:cNvGraphicFramePr/>
          <p:nvPr/>
        </p:nvGraphicFramePr>
        <p:xfrm>
          <a:off x="6858000" y="4857840"/>
          <a:ext cx="43812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4857840"/>
                    <a:ext cx="4381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0E, Q. 1c, d, h, l, 4, 6, 8, 9, 10, 11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02:27:17Z</dcterms:created>
  <dc:creator>08843474</dc:creator>
  <dc:description/>
  <dc:language>en-US</dc:language>
  <cp:lastModifiedBy>08843474</cp:lastModifiedBy>
  <dcterms:modified xsi:type="dcterms:W3CDTF">2011-06-08T05:56:11Z</dcterms:modified>
  <cp:revision>2</cp:revision>
  <dc:subject/>
  <dc:title>10E Constructing non-linear relations and graphs</dc:title>
</cp:coreProperties>
</file>